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9F3-0393-4BB0-A009-E9D0A93E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5F3-241C-446A-BE88-5FF624DE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8A1-535E-4560-B7C9-77DF3318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210-A8A4-456A-84E3-9D579580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FCA-9E0D-4195-8FAF-85C4AF91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824-6648-46A5-A102-E6A0083B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58D-31D7-49E6-A8A9-1476A989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E04-D8DB-4B0C-9A11-687A8D04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474-3724-4939-BC11-1FCD5570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945-511C-49A1-AB3E-510085A7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7ED-10B2-47B2-B6CA-CAEC4C74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E2F-DA6A-47C5-9F4B-3DEC4CF2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C399-C50F-4032-9358-DD297F12A2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atematica.com.ro/ro/3-Proprietatile-functiei-exponentiale--a1687.html" TargetMode="External"/><Relationship Id="rId2" Type="http://schemas.openxmlformats.org/officeDocument/2006/relationships/hyperlink" Target="http://www.airinei.omad.ro/catmate/2FUNCTIA PUTERE CU EXPONENT NATURAL.pdf" TargetMode="External"/><Relationship Id="rId3" Type="http://schemas.openxmlformats.org/officeDocument/2006/relationships/hyperlink" Target="http://www.referat.ro/referate/download/Functia_exponentiala_si_logaritmica_9ace5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CTIA EXPONENTIA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TIE EL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CTIA EXPONENTIA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6933960" cy="838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680256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4019400"/>
            <a:ext cx="83073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229600" cy="237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8313840" cy="2962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" y="2590920"/>
            <a:ext cx="81709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076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FICUL FUNCTIEI EXPONENT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354800" cy="1476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66880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551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81080" y="1665360"/>
            <a:ext cx="5715000" cy="4451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464832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Z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alizând cele două grafice, constatăm că ele au următoarele proprietăţi 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raficele se găsesc deasupra axei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Ox 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ec prin punctul de coordonate (0, 1) 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Graficul fiecărei funcţii este construit dintr-o singură ramură care ,,urcă’’ sau ,,coboară ’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raficul se apropie din ce în ce mai mult de axa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Ox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zitivă dacă dacă 0&lt;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&lt;1 şi d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Ox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negativă dacă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&gt;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bliograf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matematica.com.ro/ro/3-Proprietatile-functiei-exponentiale--a1687.html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www.airinei.omad.ro/catmate/2FUNCTIA%20PUTERE%20CU%20EXPONENT%20NATURAL.pdf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http://www.referat.ro/referate/download/Functia_exponentiala_si_logaritmica_9ace5.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20:36:15Z</dcterms:created>
  <dc:creator>Jeni</dc:creator>
  <dc:description/>
  <dc:language>en-US</dc:language>
  <cp:lastModifiedBy>User</cp:lastModifiedBy>
  <dcterms:modified xsi:type="dcterms:W3CDTF">2011-01-14T10:02:35Z</dcterms:modified>
  <cp:revision>2</cp:revision>
  <dc:subject/>
  <dc:title>FUNCTIA EXPONENTIALA</dc:title>
</cp:coreProperties>
</file>